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7DB-3239-4F5C-8F32-7272E5F0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2F8-41E1-493A-94AA-8F79A160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65B-996C-48A7-96E6-FE28F1EF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64C-A185-4142-BD8D-9ABA1E1E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30B4-F086-4E1A-80EA-B60CC163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506B-FD54-4DB8-8B1A-05A28CC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5F8-7F5A-49E1-AF31-1F9D46E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81F5-974F-4238-8BC7-72B0FAF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8E0-AD7F-46CC-9E94-508C36D6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85AF-83D8-4204-B47B-72DF2D6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6334-EBC1-4BE7-BCAD-D6C9DF8F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B69-5FDC-4497-8793-A3F83E90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AADC-441C-42E5-954D-9FC38E7A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5D2-52C9-48AC-986F-883005BE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4832-7CF0-4A2F-B4D8-C2F01CA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B13-88DC-4CE5-8F8B-0F1830BE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1099-78DA-432F-9729-DB4F3DE1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A6E-10E9-4EEF-9A1E-A43281AE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82C-173F-40EC-B7C4-BB085AD1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155-71E4-4E95-BFD0-030BC800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3EC-8955-4141-A9AB-5111C6A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DF8-6096-4C72-BD0B-D560E54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951-60D2-4528-A382-7A1F36A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923-39C0-4B69-9DA7-B59CFF4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89E8-C1F1-44D7-B202-6C1A0289C97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BB8-427D-49C8-AECA-3132E5FA39F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3818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Teaching an On-Line Undergraduate Computer Security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FISSEA Meeting</a:t>
            </a:r>
            <a:br>
              <a:rPr sz="4800"/>
            </a:b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March 11, 1999</a:t>
            </a:r>
            <a:br>
              <a:rPr sz="4800"/>
            </a:b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Gaithersburg,MD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DS 424 - Computer Security Managemen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line/Sylla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6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cs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tion Guide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g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Point Sl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5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ite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eb site  Addre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ttp://cob.jmu.edu/Forchtk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ETHODOLOG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Daily Assignments - Ca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Two Exa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 I  - Discussion Ques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 II - Development of Security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           Poli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One Project   - Internet Security Policy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           Stat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tudent Respon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rse was somewhat independent of the instructor  and self tau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ily assignments were helpful to make me read each ch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haps an upper-level security class could expand upon some topi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tudent Response (cont.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as unique and interes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liked the “Real World” ca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dom of interpretation ..make the class very understandable and educat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a lot of self discipli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16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really love on-line cla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uture of Distance Learn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t Rooms / Discussion Boar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osed Sit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ideo / Audi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ferenc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rnet Expan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r. Karen A. Forcht 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ndersen Consulting Professor </a:t>
            </a:r>
            <a:br>
              <a:rPr sz="4200"/>
            </a:b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uter Information Systems (CIS) and Operations Management (OM)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llege of Busines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ames Madison Universit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arrisonburg VA. 22807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540) 568 3057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chtka@jmu.ed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Non-Traditional Course Delivery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spond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Study (On-site Exa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med Comple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-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aking Learning to the Studen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Traditional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Schedu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/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ensed Student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209556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Virtual Colleg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long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gree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tion Ex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ard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ency-Based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2502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n-Line Computer Security Class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B - CIS/OM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IDS 424 - Computer Security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Elective  - CIS Majors (Senior -Lev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Good, Bad, and Ugly of On-Line Educ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o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Flex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Cre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Personal pacing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Shrinks d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Allows any student to particip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Good, Bad, and Ugly of On-Line Educ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abor int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acks face to face cont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nteractivity la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equires discipline / ded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socialization or a lonely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equires extreme organization f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Good, Bad, and Ugly of On-Line Educ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GL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Not yet fully acceptab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Crossing State/County bounda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Accreditation Ques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Control Lack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Validation of Assign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Copyright infring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Not adaptable for every learning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8T23:27:55Z</dcterms:created>
  <dc:creator>ILR-Computing Support</dc:creator>
  <dc:description/>
  <dc:language>en-US</dc:language>
  <cp:lastModifiedBy>ILR-Computing Support</cp:lastModifiedBy>
  <dcterms:modified xsi:type="dcterms:W3CDTF">1999-03-05T13:19:45Z</dcterms:modified>
  <cp:revision>4</cp:revision>
  <dc:subject/>
  <dc:title>TEACHING an On-Line Undergraduate Computer Security Course  FISSEA Meeting March 11, 1999 Gaithersburg,MD</dc:title>
</cp:coreProperties>
</file>