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spcBef>
                <a:spcPts val="5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ing Effectiveness of Computer Security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ia A. Pedicini, CIS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, Information, and Communications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s Alamos National Labora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Stu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raining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-population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37240" y="6224760"/>
            <a:ext cx="137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97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idation s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L OCS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 Computer Security Group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d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03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tfa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alid respon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orrect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biguous ques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pri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09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ected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537240" y="6224760"/>
            <a:ext cx="137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after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tra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better than im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formation but still better than im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population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ed learn more than cl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16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al Find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37240" y="6224760"/>
            <a:ext cx="1378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28800" y="1905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23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 txBox="1"/>
          <p:nvPr/>
        </p:nvSpPr>
        <p:spPr>
          <a:xfrm>
            <a:off x="533520" y="4724280"/>
            <a:ext cx="672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ae00"/>
                    </a:gs>
                    <a:gs pos="100000">
                      <a:srgbClr val="005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60c265">
                      <a:alpha val="50000"/>
                    </a:srgbClr>
                  </a:outerShdw>
                </a:effectLst>
                <a:latin typeface="Arial"/>
              </a:rPr>
              <a:t>Pass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ae00"/>
                  </a:gs>
                  <a:gs pos="100000">
                    <a:srgbClr val="005000"/>
                  </a:gs>
                </a:gsLst>
                <a:lin ang="5400000"/>
              </a:gradFill>
              <a:effectLst>
                <a:outerShdw dist="53966" dir="2700000" blurRad="0" rotWithShape="0">
                  <a:srgbClr val="60c265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3809880"/>
            <a:ext cx="672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ece02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Arial"/>
              </a:rPr>
              <a:t>Fail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ece02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981080"/>
            <a:ext cx="672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ae00"/>
                    </a:gs>
                    <a:gs pos="100000">
                      <a:srgbClr val="005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60c265">
                      <a:alpha val="50000"/>
                    </a:srgbClr>
                  </a:outerShdw>
                </a:effectLst>
                <a:latin typeface="Arial"/>
              </a:rPr>
              <a:t>Pass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ae00"/>
                  </a:gs>
                  <a:gs pos="100000">
                    <a:srgbClr val="005000"/>
                  </a:gs>
                </a:gsLst>
                <a:lin ang="5400000"/>
              </a:gradFill>
              <a:effectLst>
                <a:outerShdw dist="53966" dir="2700000" blurRad="0" rotWithShape="0">
                  <a:srgbClr val="60c265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2895480"/>
            <a:ext cx="67284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ff00"/>
                  </a:solidFill>
                  <a:miter/>
                </a:ln>
                <a:gradFill rotWithShape="0">
                  <a:gsLst>
                    <a:gs pos="0">
                      <a:srgbClr val="00ae00"/>
                    </a:gs>
                    <a:gs pos="100000">
                      <a:srgbClr val="005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60c265">
                      <a:alpha val="50000"/>
                    </a:srgbClr>
                  </a:outerShdw>
                </a:effectLst>
                <a:latin typeface="Arial"/>
              </a:rPr>
              <a:t>Pass</a:t>
            </a:r>
            <a:endParaRPr b="1" lang="en-US" sz="2400" spc="1" strike="noStrike">
              <a:ln w="9360">
                <a:solidFill>
                  <a:srgbClr val="00ff00"/>
                </a:solidFill>
                <a:miter/>
              </a:ln>
              <a:gradFill rotWithShape="0">
                <a:gsLst>
                  <a:gs pos="0">
                    <a:srgbClr val="00ae00"/>
                  </a:gs>
                  <a:gs pos="100000">
                    <a:srgbClr val="005000"/>
                  </a:gs>
                </a:gsLst>
                <a:lin ang="5400000"/>
              </a:gradFill>
              <a:effectLst>
                <a:outerShdw dist="53966" dir="2700000" blurRad="0" rotWithShape="0">
                  <a:srgbClr val="60c265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0800" y="1905120"/>
            <a:ext cx="69742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 after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of tra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ed better than im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s of information but still better than im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1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-population compari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leared learn more than cle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4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19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targeted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 implicit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cess to standardize method of granting a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537240" y="6262560"/>
            <a:ext cx="137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600" y="6264360"/>
            <a:ext cx="9042480" cy="363240"/>
            <a:chOff x="12600" y="6264360"/>
            <a:chExt cx="9042480" cy="363240"/>
          </a:xfrm>
        </p:grpSpPr>
        <p:sp>
          <p:nvSpPr>
            <p:cNvPr id="135" name=""/>
            <p:cNvSpPr/>
            <p:nvPr/>
          </p:nvSpPr>
          <p:spPr>
            <a:xfrm>
              <a:off x="12600" y="645948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89920" y="643896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539040" y="626436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ep Targeted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security aspects of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ck with succ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information regarding use of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n the purpose of the train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41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49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rove Implicit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02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computer security training/refresher training now available on We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time us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refreshe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records kept in Lab-Wide Employment Developmen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2600" y="6265800"/>
            <a:ext cx="9042480" cy="363240"/>
            <a:chOff x="12600" y="6265800"/>
            <a:chExt cx="9042480" cy="363240"/>
          </a:xfrm>
        </p:grpSpPr>
        <p:sp>
          <p:nvSpPr>
            <p:cNvPr id="147" name=""/>
            <p:cNvSpPr/>
            <p:nvPr/>
          </p:nvSpPr>
          <p:spPr>
            <a:xfrm>
              <a:off x="12600" y="64609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89920" y="64404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39040" y="62658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st for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re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all improvement to effectiv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153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Meas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eting 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making an impac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objectives still make sen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r changes affect anyth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537240" y="6148440"/>
            <a:ext cx="14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537240" y="6148440"/>
            <a:ext cx="14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45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Models</a:t>
            </a:r>
            <a:br>
              <a:rPr sz="4400"/>
            </a:b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Evaluation Lev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37240" y="6148440"/>
            <a:ext cx="147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52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63440" y="5472000"/>
            <a:ext cx="1603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rkpatr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asurement Model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llectual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gnitive strate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tor skil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920" y="5486400"/>
            <a:ext cx="233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gne &amp; Bri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60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napsho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bjec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rrelevanc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flects immediate impac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s may clarif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66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velopment of relevant test/sim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nt time and eff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it measure impac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re objectives me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72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havi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 time and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or time and eff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could be su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group?  Statist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e objectives me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objectives corre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presentation effec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78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many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quantify $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lu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tom line imp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84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xt of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Security Act of 198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NL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cer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2600" y="6226200"/>
            <a:ext cx="9042480" cy="363240"/>
            <a:chOff x="12600" y="6226200"/>
            <a:chExt cx="9042480" cy="363240"/>
          </a:xfrm>
        </p:grpSpPr>
        <p:sp>
          <p:nvSpPr>
            <p:cNvPr id="90" name=""/>
            <p:cNvSpPr/>
            <p:nvPr/>
          </p:nvSpPr>
          <p:spPr>
            <a:xfrm>
              <a:off x="12600" y="6421320"/>
              <a:ext cx="653760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9920" y="6400800"/>
              <a:ext cx="965160" cy="0"/>
            </a:xfrm>
            <a:prstGeom prst="line">
              <a:avLst/>
            </a:prstGeom>
            <a:ln w="255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39040" y="6226200"/>
              <a:ext cx="1476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os Alam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8T14:08:01Z</dcterms:created>
  <dc:creator>DDCIC</dc:creator>
  <dc:description/>
  <dc:language>en-US</dc:language>
  <cp:lastModifiedBy>Pat O'Reilly</cp:lastModifiedBy>
  <cp:lastPrinted>1999-02-28T18:30:14Z</cp:lastPrinted>
  <dcterms:modified xsi:type="dcterms:W3CDTF">1999-04-07T19:21:26Z</dcterms:modified>
  <cp:revision>10</cp:revision>
  <dc:subject/>
  <dc:title>Measuring Effectiveness of Computer Security Training </dc:title>
</cp:coreProperties>
</file>