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93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80320" y="12600"/>
            <a:ext cx="6116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BD0-FF85-4EF0-AE12-A54B6C9DDF18}" type="slidenum">
              <a:rPr b="1" lang="en-US" sz="700" spc="-1" strike="noStrike">
                <a:solidFill>
                  <a:srgbClr val="23232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6283440"/>
            <a:ext cx="9142560" cy="0"/>
          </a:xfrm>
          <a:prstGeom prst="line">
            <a:avLst/>
          </a:prstGeom>
          <a:ln w="12600">
            <a:solidFill>
              <a:srgbClr val="9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60" y="6359400"/>
            <a:ext cx="1098720" cy="317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297080" y="6537240"/>
            <a:ext cx="3124080" cy="177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9080" y="1260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2323"/>
                </a:solidFill>
                <a:latin typeface="Times New Roman"/>
              </a:rPr>
              <a:t>Assembling a Basic Information Security Curriculum for Federal Employe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E. Jane Powanda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Mitretek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703 610-2292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March 9, 1999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12th Annual FISSEA Conferen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733920" y="2338560"/>
          <a:ext cx="164916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338560"/>
                    <a:ext cx="164916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1 -  Security Basic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tudent needs to understand the relationship between threat, vulnerability, countermeasure, ris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our basic ways to deal with threats and attack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event the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tect the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cover from los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o nothing and accept the ris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ss categories -  Confidentiality, Integrity, Availability, Accountabil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formation Sensitiv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2  -  Physical Secur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mputer Room Security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cks on doo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ess lists and escort polic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intenance personnel access and monitor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orkstation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cks on workstations in public area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ositioning of viewable workstations screen in public area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rking, storing, maintaining, and shipping electronic media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3  -  Personnel Secur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strictions based on clearan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eed to know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ess permissions assigned by system or information resource owne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ess permissions change as job status chang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east privileg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 given access to least amount of information necessary to perform job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 may be assigned several accounts for his different rol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4  -  Technical Secur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ication and Authentic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ternatives for authentic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echnical discussion of passwords, Tokens, Biometric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dvantages, disadvantages of each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ess contro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ivileges assigned by resource owner 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dministrator implements owner granted permission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perating system enforces the permiss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4  -  Technic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udi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l user actions are accountabl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udit capability used to record who used or attempted to use system resour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udit records include user ID, time and action perform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ncryp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differences in algorith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ublic key versus private ke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product offering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4  -  Technic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gital Signatur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scribe the concept and us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the concept of non repudi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mportance of verifying the signatu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licious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scribe virus, Trojan horse, worm, bomb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they are transmitt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mportance of using current virus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tection and removal of other malicious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4  -  Technic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ystem Bann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quirements for Federal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egal ramifications of ignoring warning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oftware Copyright Law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mpliance and penalt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reeware and Shareware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ramifications of download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olicy for us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5  -  Operational Secur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ount manage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reating user accounts with specified privileges based on valid authoriz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aling with inactive accou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s of and problems with Guest accou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ocess for terminating accou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racking account use and unsuccessful log-in attemp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ckout of accounts and re-enabl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5  -  Operation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 responsibilit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intain proper configuration settings on workst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hange password when compromise suspect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ackup of local fil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event unintended actions on data when workstation unattend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Verify that the login information is valid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5  -  Operation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posal/recycling of electronic storage media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posing of diskettes with sensitive inform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urging hard disk of sensitive information before disposal or assignment to another pers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ird party maintenance on a computer with sensitive inform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ystem backup and recover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rver backup procedur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C backup procedures (central or local)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Objectives of the Presenta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scribe the context of the security curriculum being address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esent a suggested outline and content for a comprehensive curriculum that addresses “Security Basics and Literacy”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vey the rationale for selection and organization of the materia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 additional training required for specific job func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5  -  Operation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certification for new or modified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mportance of certifying software for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ocesses for approval or certification of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Joint venture between engineering and operation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e system configur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iguration of system to implement security policy on passwords, account expiration, time of use, other security parameters as defined in guidelin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5  -  Operational Security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attended Comput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otential harm to user logged i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of screen locks for unattended computer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utomatic lock out or log-out after specified period of inactiv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intaining operational integ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gular use of tools to check system integrity to identify unauthorized code or fil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 examples of available tool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6  -  Networks and Information   Sharing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formation shar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utual agreements between sharing entit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s must be aware of sharing agreement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ules for electronic release of information to an external organiz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pproval for information posted on the Intra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pproval for information posted on the Inter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6  - Networks and Information Sharing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mote system acces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nly through authorized mod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angers of dialing directly into PC on a networ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requirements for personal systems (virus protection, configuration settings, etc..)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 authentication requirem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obile computing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and protection of laptop computer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-connecting a laptop to a local network after modifying it off-lin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6  - Networks and Information Sharing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AN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ccess control and auditing polic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usceptibility to sniff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used live RJ45 connec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A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not provided by leased line service provider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tranet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the implications of TCP/IP and demonstrate that spoofing can occu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6  - Networks and Information Sharing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ter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irewalls and firewall configuration issu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implications of telnet and FTP us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clude demonstration of sniffing or repla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7  -  Special Applica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-mai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ules for using E-mai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ack of privacy in use of E-mai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Vulnerabilities of E-mail and attachm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AX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of encryp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ternative measures if encryption not us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of audit trails and activity journal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of FAX utilities from the desktop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7  -  Special Applications  (cont’d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WW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ownloading information and progra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xecution of Java applets, Javascript, and ActiveX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ther vulnerabilit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ternal applic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ssure that security rules are in documented and distributed to us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nsure that the rules can be enforc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8  -  Review of Controls and Risk Manage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onitoring enforcement of security polic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scheduled audi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view major processes like incident handling and training for effectiveness in reducing incid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hat is a risk assessment?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ing the results of risk assessm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isk mitigation or acceptan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9  -  Incident Handling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cident reporting procedures for us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tegrity checks on servers, firewalls and other access control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view of audit trails and system log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nagement involvement in incident resolu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eservation of eviden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5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86480" cy="508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7280" y="228600"/>
            <a:ext cx="48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2000"/>
                </a:solidFill>
                <a:latin typeface="Times New Roman"/>
              </a:rPr>
              <a:t>Context of the Curriculum</a:t>
            </a:r>
            <a:endParaRPr b="0" lang="en-US" sz="32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7913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2000"/>
                </a:solidFill>
                <a:latin typeface="Times New Roman"/>
              </a:rPr>
              <a:t>[</a:t>
            </a:r>
            <a:r>
              <a:rPr b="0" lang="en-US" sz="1600" spc="-1" strike="noStrike">
                <a:solidFill>
                  <a:srgbClr val="372000"/>
                </a:solidFill>
                <a:latin typeface="Times New Roman"/>
              </a:rPr>
              <a:t>NIST Special Publication 800-16]</a:t>
            </a:r>
            <a:endParaRPr b="0" lang="en-US" sz="16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a27c"/>
          </a:solidFill>
          <a:ln w="12600">
            <a:solidFill>
              <a:srgbClr val="37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10  -  Continuity of Business Operation and Disaster Recover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lans for relocation of site, people, communications, equip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lans for backup and recovery of system data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ternate processing procedures for oper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plans are test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 11  -  Acquisition Manage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4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pecifying requirements for software development or product acquisi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uying COTs products that meet security requirem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ing criteria for determining whether products are effective for intended purpos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cuss NIAP plans for Common Criteria based security evaluations of products to be performed by independent lab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 the Common Criteria as the replacement for the Orange Book, and briefly describe the use of Protection Profiles and Security Target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ditional Training for Selected Ro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dministrato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iguring servers, firewalls and Web serv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udit analysi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perations or Site Manag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aster recovery and continuity of operation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technology products  - uses and limit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isk assess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ngineers and other IT personn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requirements (Common Criteria)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ity technology products - uses and limit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IST Special Publication 800-16,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Information Technology Security Training Requirements: A Role and Performance Based Mod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IST Special Publication 800-12,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An Introduction to Computer Security: The NIST Handboo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IST Special Publication 800-14,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Generally Accepted Principles and Practices for Security Information Technology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IST Special Publication 800-18, </a:t>
            </a:r>
            <a:r>
              <a:rPr b="0" lang="en-US" sz="2000" spc="-1" strike="noStrike">
                <a:solidFill>
                  <a:srgbClr val="232323"/>
                </a:solidFill>
                <a:latin typeface="Arial"/>
              </a:rPr>
              <a:t>Guide for Developing Security Plans for Unclassified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ho Needs to be Computer Security Literat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ite Managers with computer/network operations responsibiliti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RM Manag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ystem, Network, Web site administrato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evelopers, Analysts, Integrators, Engine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rs with access to desktop tools, networks and networked applications, E-mail and Inter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curity Competencies Needed By Federal Employe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derstand and comply with security policy and law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cognize potential security problems in their environ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now how to be proactive in preventing security probl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act appropriately to an occurrence of a security problem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now where to find additional help or inform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ke informed decisions on security matt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peak the “language”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hy Computer Security Training Needs to be Comprehensiv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ne person’s action can affect an entire organiz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covering from computer virus infection is expensiv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reak-in on one computer compromises a networ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oorly configured firewall can enable compromise of  organizational information resources and reput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llegal user actions can incur liability to an organization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aws and directives mandate relevant security train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mputer Security Act of 1987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TMRA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DD 63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hallenges in Developing a Computer Security Curriculu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mputer security is not yet a scien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o be computer security literate, a person must be computer literat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echnical subjects must be expressed in layman term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ew vulnerabilities are introduced as new technology is implement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urriculum must be updated continually to track technolog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fferent job functions require different train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ssembling a Curriculum For the General User with Network and Internet Acces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it on the IT security basics to include discussion of threats, vulnerabilities, countermeasures and ris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nit for each major topic addressed in a basic IT security policy or plan based on OMB A-130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clude additional information in specific areas where more emphasis is needed  (PDD 63)  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clude discussions of available technology products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ference the Common Criteria rather than the Orange Book when discussing specification of security requirement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ailor the depth of the material presented to level of the audience target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nits for a Basic Security Curriculu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1. Security Basic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2. Physical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3. Personnel Security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4. Technical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5. Operations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6. Network and Information Shar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7. Special Applications Secur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8. Review of Controls and Risk Manage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9. Incident Handl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10. Continuity of Business Oper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11. Acquisition Managemen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2T02:32:26Z</dcterms:created>
  <dc:creator>Dale Purich</dc:creator>
  <dc:description/>
  <dc:language>en-US</dc:language>
  <cp:lastModifiedBy>Jane Powanda</cp:lastModifiedBy>
  <cp:lastPrinted>1999-03-08T20:21:38Z</cp:lastPrinted>
  <dcterms:modified xsi:type="dcterms:W3CDTF">1999-03-08T20:41:00Z</dcterms:modified>
  <cp:revision>16</cp:revision>
  <dc:subject/>
  <dc:title>Who Needs to be Computer Security Literate</dc:title>
</cp:coreProperties>
</file>